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07C-7AAF-4E93-9594-49DADDF9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A8E-5BFC-4717-927F-E5FAC5B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E9A-0078-4C31-BCFC-39278AA9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BF4-1E41-4D3E-AB1E-ECC313A0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A83-FA0B-4E7A-93C9-7B09704F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15EF-9FE1-44E7-8126-B35A277D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D5D-4507-42B4-9D14-ECB64980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26E5-A74F-4F71-B14C-E7A63CF3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8F68-853A-4326-ADA5-3330C89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7DD0-576C-4A6D-81B5-BAB55A9C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944E-22D4-4FA0-8D98-CE1EF4F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33F-1F09-460D-9E7C-F5A6749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9E2C-44BC-4B16-A741-28684D0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320B-E0B2-493D-977E-94800F3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08C3-1562-4CEA-9B15-F130B648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D39E-1696-4614-A693-5B2F727F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7E80-7C68-49D0-ACC4-74DBCBD8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2BB-CEC5-4DF8-8070-89400F43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198-9194-4D9E-88BB-C9F97201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CBE-7B58-4774-820D-0A83FB9C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DD5-85C8-4807-94EE-5E04A82E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F86-FD6A-4A69-BA04-E868650D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DE9-F49B-4A1A-8B3A-84D0AAAE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BD7-E3CD-440D-81EA-0393C055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F79F-9589-48EE-8F08-B66E51853FC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F3AE-98DC-4A7C-9937-DAC411690A9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2/Gran_Sello_de_la_Rep&#250;blica_del_Per&#250;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LAN CONTABLE GUBERNAMENTAL 200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ESTRUCTURA Y CLASIFIC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979640" y="522936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Arial"/>
              </a:rPr>
              <a:t>JORGE BALTODANO JAR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Vice Ministerio de Haciend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ima,  Febrero de 2009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324000" y="765000"/>
            <a:ext cx="7632720" cy="1008360"/>
            <a:chOff x="324000" y="765000"/>
            <a:chExt cx="7632720" cy="1008360"/>
          </a:xfrm>
        </p:grpSpPr>
        <p:grpSp>
          <p:nvGrpSpPr>
            <p:cNvPr id="88" name="Group 7"/>
            <p:cNvGrpSpPr/>
            <p:nvPr/>
          </p:nvGrpSpPr>
          <p:grpSpPr>
            <a:xfrm>
              <a:off x="1116000" y="836640"/>
              <a:ext cx="6840720" cy="909720"/>
              <a:chOff x="1116000" y="836640"/>
              <a:chExt cx="6840720" cy="909720"/>
            </a:xfrm>
          </p:grpSpPr>
          <p:sp>
            <p:nvSpPr>
              <p:cNvPr id="89" name="Rectangle 8"/>
              <p:cNvSpPr/>
              <p:nvPr/>
            </p:nvSpPr>
            <p:spPr>
              <a:xfrm>
                <a:off x="3995640" y="836640"/>
                <a:ext cx="1800360" cy="909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Vice Ministro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de Hacienda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"/>
              <p:cNvSpPr/>
              <p:nvPr/>
            </p:nvSpPr>
            <p:spPr>
              <a:xfrm>
                <a:off x="2124000" y="836640"/>
                <a:ext cx="1871640" cy="90972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Ministerio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de Economía y Finanza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"/>
              <p:cNvSpPr/>
              <p:nvPr/>
            </p:nvSpPr>
            <p:spPr>
              <a:xfrm>
                <a:off x="1116000" y="836640"/>
                <a:ext cx="1008000" cy="9097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400" spc="-1" strike="noStrike">
                    <a:solidFill>
                      <a:srgbClr val="ffffff"/>
                    </a:solidFill>
                    <a:latin typeface="Arial"/>
                    <a:ea typeface="Calibri"/>
                  </a:rPr>
                  <a:t>PERÚ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Line 11"/>
              <p:cNvSpPr/>
              <p:nvPr/>
            </p:nvSpPr>
            <p:spPr>
              <a:xfrm>
                <a:off x="1116000" y="836640"/>
                <a:ext cx="684072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Line 12"/>
              <p:cNvSpPr/>
              <p:nvPr/>
            </p:nvSpPr>
            <p:spPr>
              <a:xfrm>
                <a:off x="1116000" y="1746360"/>
                <a:ext cx="6840720" cy="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Line 13"/>
              <p:cNvSpPr/>
              <p:nvPr/>
            </p:nvSpPr>
            <p:spPr>
              <a:xfrm>
                <a:off x="111600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Line 14"/>
              <p:cNvSpPr/>
              <p:nvPr/>
            </p:nvSpPr>
            <p:spPr>
              <a:xfrm>
                <a:off x="795672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Line 15"/>
              <p:cNvSpPr/>
              <p:nvPr/>
            </p:nvSpPr>
            <p:spPr>
              <a:xfrm>
                <a:off x="212400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Line 16"/>
              <p:cNvSpPr/>
              <p:nvPr/>
            </p:nvSpPr>
            <p:spPr>
              <a:xfrm>
                <a:off x="399564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Line 17"/>
              <p:cNvSpPr/>
              <p:nvPr/>
            </p:nvSpPr>
            <p:spPr>
              <a:xfrm>
                <a:off x="5867280" y="836640"/>
                <a:ext cx="0" cy="909720"/>
              </a:xfrm>
              <a:prstGeom prst="line">
                <a:avLst/>
              </a:prstGeom>
              <a:ln cap="rnd"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99" name="Picture 18" descr="Imagen:Gran Sello de la República del Perú.sv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765000"/>
              <a:ext cx="720720" cy="100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143000"/>
          <a:ext cx="8229600" cy="3408480"/>
        </p:xfrm>
        <a:graphic>
          <a:graphicData uri="http://schemas.openxmlformats.org/drawingml/2006/table">
            <a:tbl>
              <a:tblPr/>
              <a:tblGrid>
                <a:gridCol w="1646280"/>
                <a:gridCol w="2544840"/>
                <a:gridCol w="40384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ASTOS PATRIMONI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transacciones 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 reducen el patrimonio neto de una unidad gubernament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685800"/>
          <a:ext cx="8229600" cy="5334120"/>
        </p:xfrm>
        <a:graphic>
          <a:graphicData uri="http://schemas.openxmlformats.org/drawingml/2006/table">
            <a:tbl>
              <a:tblPr/>
              <a:tblGrid>
                <a:gridCol w="1600200"/>
                <a:gridCol w="1981080"/>
                <a:gridCol w="464832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ENTAS DE ORD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24"/>
                        </a:spcBef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os de los derechos y  responsabilidades contingentes susceptibles de ser cuantificados razonablemente y que pueden afectar la estructura financiera de la unidad gubernamental. Incluye el </a:t>
                      </a: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1" lang="es-E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o de los contratos contingentes, juicios pendientes, entre otros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1447920"/>
          <a:ext cx="8001000" cy="4978440"/>
        </p:xfrm>
        <a:graphic>
          <a:graphicData uri="http://schemas.openxmlformats.org/drawingml/2006/table">
            <a:tbl>
              <a:tblPr/>
              <a:tblGrid>
                <a:gridCol w="573120"/>
                <a:gridCol w="617760"/>
                <a:gridCol w="6810120"/>
              </a:tblGrid>
              <a:tr h="86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GRES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mpuestos y contribuciones obligato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tribu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nta de bienes y servicios y derechos administr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aciones y transfer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nta de activos no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nta de activ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deud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Rectangle 163"/>
          <p:cNvSpPr/>
          <p:nvPr/>
        </p:nvSpPr>
        <p:spPr>
          <a:xfrm>
            <a:off x="533520" y="457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NUEVOS CLASIFICADORES PRESUPUESTARIOS  AÑO FIS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33520" y="1523880"/>
          <a:ext cx="7924680" cy="4837320"/>
        </p:xfrm>
        <a:graphic>
          <a:graphicData uri="http://schemas.openxmlformats.org/drawingml/2006/table">
            <a:tbl>
              <a:tblPr/>
              <a:tblGrid>
                <a:gridCol w="655560"/>
                <a:gridCol w="655560"/>
                <a:gridCol w="6613560"/>
              </a:tblGrid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ASTOS PRESUPUES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sonal y oblig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nsiones y prestaciones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ra de bienes y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naciones y transferenc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tros 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quisición de activos no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quisición de activos financi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rvicio de la deuda públ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63"/>
          <p:cNvSpPr/>
          <p:nvPr/>
        </p:nvSpPr>
        <p:spPr>
          <a:xfrm>
            <a:off x="533520" y="4572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ahoma"/>
              </a:rPr>
              <a:t>NUEVOS CLASIFICADORES PRESUPUESTARIOS  AÑO FIS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914400" y="2422440"/>
            <a:ext cx="7391520" cy="141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CUADRO DE CLASIFICACIÓN Y CATÁLOGO DE CUENTA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6"/>
          <p:cNvGrpSpPr/>
          <p:nvPr/>
        </p:nvGrpSpPr>
        <p:grpSpPr>
          <a:xfrm>
            <a:off x="266760" y="228600"/>
            <a:ext cx="8571960" cy="6629040"/>
            <a:chOff x="266760" y="228600"/>
            <a:chExt cx="8571960" cy="6629040"/>
          </a:xfrm>
        </p:grpSpPr>
        <p:pic>
          <p:nvPicPr>
            <p:cNvPr id="128" name="Picture 4" descr="Imagen1"/>
            <p:cNvPicPr/>
            <p:nvPr/>
          </p:nvPicPr>
          <p:blipFill>
            <a:blip r:embed="rId1"/>
            <a:srcRect l="0" t="0" r="14600" b="0"/>
            <a:stretch/>
          </p:blipFill>
          <p:spPr>
            <a:xfrm>
              <a:off x="266760" y="228600"/>
              <a:ext cx="8571960" cy="66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5"/>
            <p:cNvSpPr/>
            <p:nvPr/>
          </p:nvSpPr>
          <p:spPr>
            <a:xfrm>
              <a:off x="8838720" y="253440"/>
              <a:ext cx="0" cy="657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6"/>
          <p:cNvGrpSpPr/>
          <p:nvPr/>
        </p:nvGrpSpPr>
        <p:grpSpPr>
          <a:xfrm>
            <a:off x="533520" y="76320"/>
            <a:ext cx="7924320" cy="6705000"/>
            <a:chOff x="533520" y="76320"/>
            <a:chExt cx="7924320" cy="6705000"/>
          </a:xfrm>
        </p:grpSpPr>
        <p:pic>
          <p:nvPicPr>
            <p:cNvPr id="131" name="Picture 4" descr="Imagen2"/>
            <p:cNvPicPr/>
            <p:nvPr/>
          </p:nvPicPr>
          <p:blipFill>
            <a:blip r:embed="rId1"/>
            <a:srcRect l="0" t="0" r="18751" b="0"/>
            <a:stretch/>
          </p:blipFill>
          <p:spPr>
            <a:xfrm>
              <a:off x="533520" y="76320"/>
              <a:ext cx="79243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Line 5"/>
            <p:cNvSpPr/>
            <p:nvPr/>
          </p:nvSpPr>
          <p:spPr>
            <a:xfrm>
              <a:off x="8457840" y="76320"/>
              <a:ext cx="0" cy="66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99"/>
                </a:solidFill>
                <a:latin typeface="Arial"/>
              </a:rPr>
              <a:t>ESTRUCTU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304920" y="293760"/>
            <a:ext cx="86104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304920" y="325440"/>
            <a:ext cx="861048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Object 5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305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57" descr=""/>
          <p:cNvPicPr/>
          <p:nvPr/>
        </p:nvPicPr>
        <p:blipFill>
          <a:blip r:embed="rId1"/>
          <a:stretch/>
        </p:blipFill>
        <p:spPr>
          <a:xfrm>
            <a:off x="304920" y="1027080"/>
            <a:ext cx="853416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ject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2"/>
          <p:cNvSpPr/>
          <p:nvPr/>
        </p:nvSpPr>
        <p:spPr>
          <a:xfrm>
            <a:off x="228600" y="0"/>
            <a:ext cx="8610480" cy="66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CUENTAS CONTABLES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AJA Y BAN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101.03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Depósitos en instituciones  financieras  públ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101.03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uentas corriente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2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UENTAS POR COBR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201.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s y contribuciones obligatori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201.01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41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 RE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4101.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 renta personas domicilia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4101.010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 renta personas juríd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CLASIFICADOR 200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NGRESOS PRESUPUESTARI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 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S Y CONTRIBUCIONES  OBLIGATORI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 1 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 RE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 1 1 1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s personas domicilia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1 1 1 1 1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Impuesto a la renta personas jurídic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457200" y="4191120"/>
            <a:ext cx="5867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57200" y="6629400"/>
            <a:ext cx="5867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PERACIÓN 2008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-531145-2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1 Título"/>
          <p:cNvSpPr/>
          <p:nvPr/>
        </p:nvSpPr>
        <p:spPr>
          <a:xfrm>
            <a:off x="762120" y="3048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PERACIÓN 2009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-2301080102-1302.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457200" y="480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301080102 : medica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1302.01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ercader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533520" y="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aso : Compra de medicamentos para v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 CuadroTexto"/>
          <p:cNvSpPr/>
          <p:nvPr/>
        </p:nvSpPr>
        <p:spPr>
          <a:xfrm>
            <a:off x="3332160" y="3276720"/>
            <a:ext cx="238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2060"/>
                </a:solidFill>
                <a:latin typeface="Tahoma"/>
              </a:rPr>
              <a:t>GRACI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382240" cy="469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1647360"/>
            <a:ext cx="259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s-ES" sz="2600" spc="-1" strike="noStrike">
                <a:solidFill>
                  <a:srgbClr val="000099"/>
                </a:solidFill>
                <a:latin typeface="Verdana"/>
              </a:rPr>
              <a:t>Campos</a:t>
            </a:r>
            <a:r>
              <a:rPr b="1" i="1" lang="es-E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i="1" lang="es-E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i="1" lang="es-ES" sz="2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i="1" lang="es-ES" sz="2600" spc="-1" strike="noStrike">
                <a:solidFill>
                  <a:srgbClr val="000099"/>
                </a:solidFill>
                <a:latin typeface="Verdana"/>
              </a:rPr>
              <a:t>      Nº de díg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Clase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1 dígi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1 dígi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Cuenta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2 díg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ub Cuenta nivel 1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2 díg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ub Cuenta nivel 2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2 díg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Sub Cuenta nivel 3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Verdana"/>
              </a:rPr>
              <a:t>2 dígi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533520" y="205740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572000" y="1600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3520" y="16002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8534160" y="1523880"/>
            <a:ext cx="75960" cy="40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33520" y="55627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0"/>
          <p:cNvSpPr/>
          <p:nvPr/>
        </p:nvSpPr>
        <p:spPr>
          <a:xfrm flipV="1">
            <a:off x="533520" y="1523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11"/>
          <p:cNvSpPr/>
          <p:nvPr/>
        </p:nvSpPr>
        <p:spPr>
          <a:xfrm flipV="1">
            <a:off x="4572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8"/>
          <p:cNvSpPr/>
          <p:nvPr/>
        </p:nvSpPr>
        <p:spPr>
          <a:xfrm>
            <a:off x="188928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914400" y="1752480"/>
            <a:ext cx="746748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Arial"/>
              </a:rPr>
              <a:t>CÓDIGO – CLAS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Arial"/>
              </a:rPr>
              <a:t>CONCEPT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143000"/>
          <a:ext cx="8229600" cy="4648320"/>
        </p:xfrm>
        <a:graphic>
          <a:graphicData uri="http://schemas.openxmlformats.org/drawingml/2006/table">
            <a:tbl>
              <a:tblPr/>
              <a:tblGrid>
                <a:gridCol w="1646280"/>
                <a:gridCol w="1801800"/>
                <a:gridCol w="478152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CT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n los recursos controlados por la entidad como consecuencia de hechos pasados y de los cuales se espera que fluirán a la entidad beneficios económicos futuros o un potencial de servicio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457200" y="1143000"/>
          <a:ext cx="8229600" cy="4959360"/>
        </p:xfrm>
        <a:graphic>
          <a:graphicData uri="http://schemas.openxmlformats.org/drawingml/2006/table">
            <a:tbl>
              <a:tblPr/>
              <a:tblGrid>
                <a:gridCol w="1646280"/>
                <a:gridCol w="1801800"/>
                <a:gridCol w="478152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IV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 las obligaciones presentes de la entidad, que provienen de hechos pasados y cuya liquidación se prevé que representará para la entidad un flujo de salida de recursos que llevan incorporados beneficios económicos o un potencial de servicio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1143000"/>
          <a:ext cx="8229600" cy="3408480"/>
        </p:xfrm>
        <a:graphic>
          <a:graphicData uri="http://schemas.openxmlformats.org/drawingml/2006/table">
            <a:tbl>
              <a:tblPr/>
              <a:tblGrid>
                <a:gridCol w="1646280"/>
                <a:gridCol w="2544840"/>
                <a:gridCol w="40384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TRIMO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 la participación residual que queda sobre los activos de la entidad, después de deducir todos los pasiv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52280" y="2209680"/>
          <a:ext cx="8763120" cy="3124440"/>
        </p:xfrm>
        <a:graphic>
          <a:graphicData uri="http://schemas.openxmlformats.org/drawingml/2006/table">
            <a:tbl>
              <a:tblPr/>
              <a:tblGrid>
                <a:gridCol w="1614600"/>
                <a:gridCol w="3075120"/>
                <a:gridCol w="407340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ÓDIG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L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99"/>
                          </a:solidFill>
                          <a:latin typeface="Tahoma"/>
                          <a:ea typeface="Times New Roman"/>
                        </a:rPr>
                        <a:t>CONCEP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GRESOS PATRIMONIA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0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transac-ciones que aumentan el patrimonio neto de una unidad guberna-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f</cp:lastModifiedBy>
  <dcterms:modified xsi:type="dcterms:W3CDTF">2009-02-04T17:09:19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